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43713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436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77920" y="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10FDF7-B423-408D-9C48-854656C16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8040" cy="41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7240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77920" y="8672400"/>
            <a:ext cx="2965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28248F-0336-478C-9AEA-C5E60B0C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3878280" y="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16EC0-8F14-4AAB-9315-2A48803F2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804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AE0-6B3A-4FC0-839C-6E58056A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8B2-B621-46D9-B473-B884E070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48B1F-50AC-422A-8D2A-BEB9614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D44A-B73C-4E5E-A1E5-8066C5B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D3F60-B62E-4D42-AC71-C0F2BB6A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ABA5D-61DA-460F-B59B-1EE43F0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A87A0-C1FF-4F4E-8F30-5D4FB65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0021-A128-4C72-9911-EB40EA2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3756-225A-4FE3-93A7-7AA71B2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F8E9F-D60C-4B1A-93EA-983E7383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2B090-A162-4E1F-ABD4-6C0808A7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55F2-4A64-4DC7-BB03-CE47A6D0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505-6CB0-4AFA-B74B-8827C178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B0AEC-16E8-4EBE-B976-B04AC24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290FB-1ED3-4384-886F-EE870751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4B7B3-2A96-4374-9060-8D2C290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69E8F-1E56-459E-8033-ABCE7E0F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220BB-58F9-45C5-8E19-889968B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9BAD8-299B-40FF-82FC-1318C75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8EBC3-FF80-4094-8181-C9AD41E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20C8A-70ED-461A-B7CE-2B6091E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EB32B-4305-4D30-9EB7-634470E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EA034-7BDB-43DF-AFF3-F55BC4FC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5E1-68DF-4542-8F37-D28104EB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BAF41-9C0A-49BA-AEFC-C16C0BDE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B914-2FD9-4331-AE83-73EEB93E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AA5F-D434-4F18-AA5D-373BFE0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5E567-39F8-4069-89E6-4D294B62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7893-264F-49E2-9A07-316D4178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A6D3-9B7B-44F9-8EE0-74D6264D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5F767-7030-4EB2-9FEF-5D309AFC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55E17-8118-4511-8823-11539958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6AE18-B726-4C1B-829E-17FE0F7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0AACB-7A0D-4FE9-9FFE-42ED9AB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D31-7BF7-4865-96E0-3D7D964C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A0899-D2AC-41A9-9C17-654993B9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2B80A-EC39-4891-B50D-9E7A61D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D7ED-B33E-42AD-8D62-1FDC77E0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80A89-0B62-4BBD-B5B0-B542D603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96A0D-C5FE-4FF8-A045-2B216E9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F6AE3-66DA-403F-AB0E-92EF73A5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3FC68-4451-4E65-827D-B231566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9B94-74F5-4085-9D94-EBC4A01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0557D-1F2F-4C4B-BDAA-4E9D180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BD562-C3D0-4007-B8BC-7C3E89F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3CB9-0CA2-4E1C-9EBC-C08846AD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0EC6E-E2C3-47AC-8BDC-F3ABC85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1BD85-7193-4A26-B1B3-A09F51B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8085C-DBD8-4CFA-B63C-9F704B8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7AA74-418F-488B-A945-F2DA975B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54C88-2CA0-4476-9149-162ABB37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511A-16F6-42B0-BA23-7683750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7D6-72FF-4EA9-BC3C-91D8E62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419-1BC7-4088-A409-740DA9A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E60B-C3B0-4D3B-A0A6-18479B36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490-E155-4C02-B90E-B74894C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98F-DA47-47DF-ABA7-ADCEF671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56ED-BC9C-409E-9DC5-EEA7229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62EC-84F3-4504-963A-36D68DC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68F8-59CF-4668-8252-6BD985B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2CD5-9F4E-4D76-9C2D-B85084E1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193-1B5D-488F-8608-30EEF5DC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72CF-8FA8-43CB-97B2-A6DA6A33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54E5-786D-4F82-B8B1-C94C21D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9BED-1A2D-4BA8-805E-4B5FBC4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84BA-DCE3-4957-8788-1B8761A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715E-CF82-4E04-AD2F-D55BA70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F0B-8500-4500-BE59-7DFA4077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D88A-BBBE-4EF9-AD52-2D68F36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1EF4-0FE7-40E2-9870-29B2370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49AF-759E-420C-BFD7-D4516A1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A34C-35B5-4DBF-AD93-E3214DFD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18A7-D8AB-4BEE-BCA7-29CC69B9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BF6E-4540-476F-97E8-21B969C6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BB7D-516F-4A50-A337-C0FBAF0B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F096-9D82-465B-9661-71D9D577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BB5F-D453-48E4-9F2C-CDFBFB7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4D93-E902-4589-8060-191111A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2BE-F5CA-4C5D-8D43-E26A9F3A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9FAB-0AD1-4A7E-8300-8F66913F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C763-C612-44D5-8A37-F7A6F0B5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C05C-6165-435C-9163-D0AC7595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DBA3-4E15-4EAC-B439-173ECF70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CC8A-06EA-4FC7-8D7F-C24193A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C9F4-7A43-4AD9-8E7C-89C8725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4590-07A2-47BF-BC2C-F16614D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E202-FE27-4D94-AA50-4CBB8EF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BB35-6295-4F43-B046-AA7B587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E7D5F-3717-4F0A-9D06-0EB70E89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165-96BD-433F-83EA-0D50A56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A980-4619-4B31-B2BC-5B20B08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EE649-4BA4-40A9-B738-81BE786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9595-138E-4975-AA27-62C20A3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77A2-7B66-4433-A7A7-B1E177D3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1C62-A41B-418B-9047-96051884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78F0-6767-4901-836F-BE07BC3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2D95-56ED-44A9-87BE-32E96BC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8C03F-5F83-4C53-B70E-DFF2FD0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F07F-053B-4D91-9ED9-0E5A1192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74FB-F178-46DE-90BD-87E3D29D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A58-5A94-4D84-847E-4D8C4D5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1F119-E44B-4A95-B16E-252B88E4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4FB5-B500-403F-8DA3-BE39F22D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5304-FF56-42F6-8E8A-F266210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1E63-E4C0-47B1-941D-50984DF1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8D35-F861-4B33-91AC-DF00CE2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FD19-C10F-4DC3-8646-89A0CFC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FBFA-02BA-404E-9914-5374151D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4C87-9464-4A53-9DAA-109F863F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E773-1072-45B1-99FB-DA23E36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66D4-5A61-4AD6-8DD9-D4FFEDE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553-56E5-4643-A235-365943F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14C5D-30F3-4737-847A-A719E7A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1312-5B49-455F-9484-05F95FE4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D2C1-0731-4ACB-8D48-ABF9613B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5D66-F7D8-4B68-A0BA-18C0FA3A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DC18-65A0-4565-82C5-C931D71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57B9-E8DC-44FD-97B8-902F471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4990-2E2E-4952-AFB4-6D8BF23A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2FA4-9A94-4F25-8B5A-32898F8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0503-2062-48E9-8A1E-ACA4A87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1D06B-B113-49C4-BF1F-4D17063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1D6-3EB2-45DD-9A17-5B110DF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4C40-C09B-4612-8C4D-3950F3A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C8E18-7B84-4808-B251-8C6708C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BED1-0F04-401A-B3A5-09E84638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AA71-9879-4F10-AED2-13CC76CF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8F5C-94F2-4D46-BC03-1C95C8A4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1A99-44DF-4D65-9131-3CF62E9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CA27-95B0-4EEF-8785-9C9FE7EE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00674-07BB-4557-9296-2E7ED1C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7DCB-4629-4D8C-A800-C79C2035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6697-22BA-4B08-9374-69B3993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F91-C891-47AF-8AB7-51C1F68C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585E-3E7F-44E4-AE69-30FB809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D499-722B-4F86-ACBD-6FF1529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3FAB-F765-4C1D-A01E-1514F98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8C17-AD91-416E-894D-8A48445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CBF9-2272-463B-B27B-E319C572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10563-F23B-4EBF-9F64-AE43BFC3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1E97-BC48-4E31-AA5E-BE173A53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087A0-ABF3-439F-9E62-A4528AF8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9F0B4-070D-4229-800E-E891480A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32278-2518-4DA2-BD3C-84A8228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7B2-AE44-4C4A-9F92-F7D316C114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38C-672F-4A16-AD47-785CFABB7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4A9-E11E-41E4-B6AA-9D60695D9F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E3E-E38C-4C9E-B8B7-05BBB4DA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04B-1915-4A72-A2C5-107C01B4A0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00D5-4E06-4AC5-BE8A-F47BF2A1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EB2-87BD-4772-96FE-907F1AF6E8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F13-E778-49FA-94F2-17CE4899D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88A-5636-4B40-A555-59DE05B833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1E5A-D0B0-4FD2-A482-B618A001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DFC-3D03-494E-BA79-EE6FBA6B29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6C2-6628-4C0C-94D8-DAAD674C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18C-56FE-4677-82B7-AF1D569438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24E-1E35-4443-AA0C-6C4664C7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7174-8CA3-4687-9EE1-D3DBBF9800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392-740C-4251-8C38-26C4B13C7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6428-A95E-4CEB-8D83-CA62918DE8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AD2-C8CA-482A-87D9-BDD46F94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C7F-A6F7-4284-9F0A-EDD9928C04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FAA-C4BE-45C2-B6AE-5AC7D899D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39BD-C995-4582-AB91-65661DB186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DC9-74AC-42DB-9F2B-1379EE5F9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E79-D8C8-4D84-A237-5E25AA3182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1ED-8BDC-4982-8428-26854166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C8D-05D1-412F-93B4-A8CB0D0DA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0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1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92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2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3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4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5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gu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e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L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7E8-5BCD-484D-84D2-6C6CE2567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380880" y="1447920"/>
            <a:ext cx="846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a person asks, “Are you pulling my leg?” he or she is using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204-50FB-4ED2-8D0F-C48A6C3F4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084760" y="1905120"/>
            <a:ext cx="57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D68-0D1C-49A2-A3B2-BF762F97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7200" y="144792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r shoes were as big as a boat (not simil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59B-9CB9-45AA-BEB1-21154AD1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1371600" y="27504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hyberbol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7E6-0117-4522-B7B0-5A288240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990720" y="1905120"/>
            <a:ext cx="7162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made me remember the movi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e Wizard of O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B739-A0C3-448D-B2D2-9E2171854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737720" y="2209680"/>
            <a:ext cx="54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llus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465B-2628-423B-B751-2539A753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304920" y="48744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-363600" y="1828800"/>
            <a:ext cx="996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a boy who makes a rash dec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day a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happens in the story (not on your li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7FFC-B44E-4827-88BA-312043AB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2430360" y="1981080"/>
            <a:ext cx="42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plo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BD6-3F1D-4059-9663-04C7EDA5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25240" y="2057400"/>
            <a:ext cx="857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act that Sammy quit working 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&amp;P” and the audience/r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d not expec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C2AC-6796-4316-86BC-A9DFE1A33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06800" y="220968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iron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52A-CDE3-4717-8367-4010AC9EA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0880" y="762120"/>
            <a:ext cx="853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rper hates hamburgers” is an example of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499-0066-4BE5-8726-12C60842A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219320" y="167652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’s not fat, she is just a li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thick or big bo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49CA-EFDB-4815-A753-F9F99E685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447920" y="1988280"/>
            <a:ext cx="62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uphemis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A827-D4D9-499E-B5F5-18981AE6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277920" y="685800"/>
            <a:ext cx="84135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narrator tells the story, we say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told 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on point of vie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E61-8036-4556-A947-F1849C8E9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996840" y="2209680"/>
            <a:ext cx="680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thir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son point of vie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77C-756F-451C-98E1-BF6FEBE2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027080" y="2209680"/>
            <a:ext cx="756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without using like or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5965-F48F-48EA-AF06-A510E777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396880" y="247032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taph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FC1-526C-42EA-BE4F-FA1D7EB6A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1737000" y="1981080"/>
            <a:ext cx="525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ge/gross exagg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39AD-6C2E-4147-AEDC-3ACC9868C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2337480" y="2664000"/>
            <a:ext cx="44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hyperbo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EDCA-E1F8-4628-856C-E9DCA4BE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3120" y="2816280"/>
            <a:ext cx="783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something turns out differ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 exp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1A3-8974-4452-937D-C42C4FF7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971440" y="2698920"/>
            <a:ext cx="31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ron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DDE-289F-4A0D-B99F-AF9E873E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286000" y="2784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551960" y="1752480"/>
            <a:ext cx="63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39D7-8750-4501-ADED-B175B3769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827360" y="2057400"/>
            <a:ext cx="535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ay in whi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peaker tells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A41-1BB1-413E-818D-559BA8057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1794960" y="24354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oint of vie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35C-12E8-4422-B5D2-CA9F780D2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735480" y="2057400"/>
            <a:ext cx="73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verall feeling, place, and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which the story takes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D52A-16C1-47C9-8B83-F10641EF1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2647080" y="2546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t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3BD-AD2F-48D7-8A4D-2E27087C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079640" y="243540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etition of consonant s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681-D8BB-426B-9BDD-91CD0938B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2059200" y="2435400"/>
            <a:ext cx="43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A67D-B1B9-4A61-855A-7593E11AD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24160" y="220680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in subject, message, or les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949-A745-4A7D-A8CA-C4B57BAFA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2535120" y="228276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D6B7-3124-4DEF-9935-B2BB7FB66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761040" y="1978200"/>
            <a:ext cx="737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ring (reference to) somet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istic or histor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84C-C8AB-46ED-9060-8ED858231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2427840" y="2359080"/>
            <a:ext cx="37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u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43E3-C162-4F35-9C91-EB09AFD7E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447920" y="108792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woosh, bang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uzz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e all examples of this type of figurative langu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519-C35B-4192-B8E9-51EAACE3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96720" y="2133720"/>
            <a:ext cx="83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ds that imitate the sound they cre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0F8-93C7-4C42-865C-98E6BCE3A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631880" y="213048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nomatopoe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326-30DE-468A-AA5E-366A948B5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1447920" y="2590920"/>
            <a:ext cx="6248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2256120" y="1981080"/>
            <a:ext cx="45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ary sun shi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t personific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CA5-6C73-42C4-90B1-F9453F085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2260800" y="2089080"/>
            <a:ext cx="43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lliter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8C3-0702-4F2D-8A18-98F06D163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646640" y="2206800"/>
            <a:ext cx="622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&amp;P”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i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e in Bos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504-54AB-4B8A-9078-46B6EBD5A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2590920" y="1981080"/>
            <a:ext cx="37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t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53E-EBC6-4201-B6AA-342A06AD5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887760" y="2133720"/>
            <a:ext cx="732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ttle Red Riding Hoo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ver talk to stra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D65-B2A2-436E-B9C6-0FAC855A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2755800" y="24354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FF9-EDBF-4E9A-80E1-05B9288FF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516960" y="1523880"/>
            <a:ext cx="833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lliam, stop hitting m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not I’m just stretching Rebecca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, o.k. then glad we are still friends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C2F-DC75-424E-B363-66D332CD8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590480" y="2359080"/>
            <a:ext cx="56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dialogu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0E5-9933-4E14-8674-6842D457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20968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onomatopoe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293-240B-4DEB-861B-DCC1629F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901160" y="23623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ngel is an example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CAE-9F77-4A4C-A227-020B82CF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1509120" y="220968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antagonis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E9A-AD36-4175-92BC-136C51E46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57200" y="91440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your teacher say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ve told you a million times to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name on your paper,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is using this typ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ative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E3A5-D3F6-4DF9-8516-C5E85342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209680" y="1828800"/>
            <a:ext cx="44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hyperbole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D138-47EC-4E51-9C0F-B379CD22F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47520" y="1828800"/>
            <a:ext cx="725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paintbrush danced alo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 is an example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 of figurative langu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559-B0D1-4D01-A1F3-48743770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371600" y="183636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personific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Nvasquez</cp:lastModifiedBy>
  <dcterms:modified xsi:type="dcterms:W3CDTF">2009-09-29T21:11:15Z</dcterms:modified>
  <cp:revision>97</cp:revision>
  <dc:subject/>
  <dc:title>Blank Jeopardy</dc:title>
</cp:coreProperties>
</file>